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move the slide</a:t>
            </a:r>
            <a:endParaRPr b="1" lang="en-US" sz="4400" spc="-1" strike="noStrike">
              <a:solidFill>
                <a:srgbClr val="bd9d69"/>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880E-B82E-428E-A81B-A1FBCF5965D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re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ickert’s way to happiness and success with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VEN STEP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7 -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an eye out for misused homonyms (words that sound alike but have different spellings and mea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each word starting from the end of the sentence and working toward the beginning. (this keeps you from assuming what the word will be because of context and helps you see what is actually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ABSOLUTELY POSITIV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of Mr. Rickert’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n types of errors you can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nt and find method of proofreading is based on finding a percentage of your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ystem ensures you will find 100% of the errors in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completed all seven steps you will have identified all the possibl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g your paper sentence by sentence ensures that you are focusing on what is actually on the page, not just what you think should be on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heck for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heck for words that are left out and check for words or ideas that are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heck all words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heck for all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heck for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Check for misspelle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 Complet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ntence is complete when it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ject – What or who is the sentenc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b – What is being said about the subject, or what did the subjec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apital letter at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d mark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kes complet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 Are Words left out or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start a sentence with an idea and then restate the idea at the end because we forgot what w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accidentally repeat or leave out words because we know what we meant to say, but forget to actually sa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 Check for Capitaliz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noun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per adjectiv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words in Titles should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nouns should not be capit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 Check for Punctuation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unctu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strop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each kind of mi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n’t sure LOOK I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 Subject-Verb Agre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singular subject you should have a singular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s with the yarn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s plays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t play with the yarn (in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lural subject you should have a plura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in identifying the correct subject so you know which type of verb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6 – Check for problems in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 usage – does the pronoun refer to a specific, already identified noun within the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negatives – two ‘not’s make a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choices – An comes before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11E68-ABDC-48C2-A48D-DCAFB716C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91EDD-2D04-4479-A3CC-D8079863D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8D4BE-6C25-4CAA-816D-3EB797034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6A6CD-86BF-44BB-B0AA-3E0BC714B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C9774-A0DB-4FD2-8540-12ECCF57D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10CA-AEE3-4A91-919C-675D372E2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7935B-8C79-48A0-B479-D5338B54B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2A5FB-62C0-4CEC-BA39-626100A17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38FAE-6950-4A49-947C-95CFFBA1D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EFEE8-AF1E-4184-9118-E201D17B6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941CA-39D2-4204-861D-2D9167C14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2E9E2-B862-41C8-A074-081361DC7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F2D76-B81B-4023-8B53-1B677EEE5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6CD0A-042A-4B5F-83BF-8A43913C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03E17-19A9-4B94-ABDE-D47DFB220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24EB3-F8A6-4BCF-AE1D-DFA79DF9B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A41D5-5616-4B6F-950C-189D4639F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890B8-8EA1-44D3-B679-3CCD1490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BDB7F-49E7-4A3D-9C46-2FD87B3E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813CB-CA30-4BB3-9034-535FA7486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54401-FDBA-4B28-9E05-EEC16B24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8B2D-C041-42EB-A785-36F5E59DA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BF79-17A3-4F36-9B76-B002BE57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d9d69"/>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611B6-D084-4884-B0EE-D80EEC533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44AC-6BFF-4E03-B8B8-A6FE08E6A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e7e2b2"/>
                </a:gs>
                <a:gs pos="50000">
                  <a:srgbClr val="f5f0bd"/>
                </a:gs>
                <a:gs pos="100000">
                  <a:srgbClr val="e7e2b2"/>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fffcf"/>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fffd5"/>
                </a:gs>
                <a:gs pos="100000">
                  <a:srgbClr val="ffffc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f5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Click to edit the title text format</a:t>
            </a:r>
            <a:endParaRPr b="1" lang="en-US" sz="4400" spc="-1" strike="noStrike">
              <a:solidFill>
                <a:srgbClr val="bd9d69"/>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bd9d6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c64b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27D8-8BDE-40AF-805B-B688D2FEC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d9d69"/>
                </a:solidFill>
                <a:latin typeface="Garamond"/>
              </a:rPr>
              <a:t>Proofreading </a:t>
            </a:r>
            <a:endParaRPr b="1" lang="en-US" sz="5400" spc="-1" strike="noStrike">
              <a:solidFill>
                <a:srgbClr val="bd9d69"/>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r. Rickert’s way to happiness and success with writing.</a:t>
            </a:r>
            <a:endParaRPr b="0" lang="en-US" sz="3200" spc="-1" strike="noStrike">
              <a:solidFill>
                <a:srgbClr val="000000"/>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VEN STEP PROCESS</a:t>
            </a:r>
            <a:endParaRPr b="0" lang="en-US" sz="3200" spc="-1" strike="noStrike">
              <a:solidFill>
                <a:srgbClr val="000000"/>
              </a:solidFill>
              <a:latin typeface="Garamond"/>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7 - Check for Misspelled Words</a:t>
            </a:r>
            <a:endParaRPr b="1" lang="en-US" sz="4000" spc="-1" strike="noStrike">
              <a:solidFill>
                <a:srgbClr val="bd9d69"/>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ep an eye out for misused homonyms (words that sound alike but have different spellings and meanings)</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heck each word starting from the end of the sentence and working toward the beginning. (this keeps you from assuming what the word will be because of context and helps you see what is actually on the page)</a:t>
            </a:r>
            <a:endParaRPr b="0" lang="en-US" sz="2800" spc="-1" strike="noStrike">
              <a:solidFill>
                <a:srgbClr val="000000"/>
              </a:solidFill>
              <a:latin typeface="Garamond"/>
            </a:endParaRPr>
          </a:p>
          <a:p>
            <a:pPr marL="339480" indent="-339480">
              <a:spcBef>
                <a:spcPts val="700"/>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F YOU AREN’T ABSOLUTELY POSITIVE </a:t>
            </a:r>
            <a:r>
              <a:rPr b="1" lang="en-US" sz="2800" spc="-1" strike="noStrike" u="sng">
                <a:solidFill>
                  <a:srgbClr val="000000"/>
                </a:solidFill>
                <a:uFillTx/>
                <a:latin typeface="Garamond"/>
              </a:rPr>
              <a:t>LOOK IT UP!</a:t>
            </a:r>
            <a:endParaRPr b="0" lang="en-US" sz="2800" spc="-1" strike="noStrike">
              <a:solidFill>
                <a:srgbClr val="000000"/>
              </a:solidFill>
              <a:latin typeface="Garamond"/>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Benefits of Mr. Rickert’s approach</a:t>
            </a:r>
            <a:endParaRPr b="1" lang="en-US" sz="4000" spc="-1" strike="noStrike">
              <a:solidFill>
                <a:srgbClr val="bd9d69"/>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re are seven types of errors you can m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e hunt and find method of proofreading is based on finding a percentage of your mistake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y system ensures you will find 100% of the errors in your paper.</a:t>
            </a:r>
            <a:endParaRPr b="0" lang="en-US" sz="3200" spc="-1" strike="noStrike">
              <a:solidFill>
                <a:srgbClr val="000000"/>
              </a:solidFill>
              <a:latin typeface="Garamond"/>
            </a:endParaRPr>
          </a:p>
        </p:txBody>
      </p:sp>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41"/>
                                        </p:tgtEl>
                                        <p:attrNameLst>
                                          <p:attrName>style.visibility</p:attrName>
                                        </p:attrNameLst>
                                      </p:cBhvr>
                                      <p:to>
                                        <p:strVal val="visible"/>
                                      </p:to>
                                    </p:set>
                                    <p:anim calcmode="lin" valueType="num">
                                      <p:cBhvr additive="repl">
                                        <p:cTn id="7" dur="1000" fill="hold"/>
                                        <p:tgtEl>
                                          <p:spTgt spid="141"/>
                                        </p:tgtEl>
                                        <p:attrNameLst>
                                          <p:attrName>ppt_w</p:attrName>
                                        </p:attrNameLst>
                                      </p:cBhvr>
                                      <p:tavLst>
                                        <p:tav tm="0">
                                          <p:val>
                                            <p:strVal val="#ppt_w+.3"/>
                                          </p:val>
                                        </p:tav>
                                        <p:tav tm="100000">
                                          <p:val>
                                            <p:strVal val="#ppt_w"/>
                                          </p:val>
                                        </p:tav>
                                      </p:tavLst>
                                    </p:anim>
                                    <p:anim calcmode="lin" valueType="num">
                                      <p:cBhvr additive="repl">
                                        <p:cTn id="8" dur="1000" fill="hold"/>
                                        <p:tgtEl>
                                          <p:spTgt spid="141"/>
                                        </p:tgtEl>
                                        <p:attrNameLst>
                                          <p:attrName>ppt_h</p:attrName>
                                        </p:attrNameLst>
                                      </p:cBhvr>
                                      <p:tavLst>
                                        <p:tav tm="0">
                                          <p:val>
                                            <p:strVal val="#ppt_h"/>
                                          </p:val>
                                        </p:tav>
                                        <p:tav tm="100000">
                                          <p:val>
                                            <p:strVal val="#ppt_h"/>
                                          </p:val>
                                        </p:tav>
                                      </p:tavLst>
                                    </p:anim>
                                    <p:animEffect filter="fade" transition="in">
                                      <p:cBhvr additive="repl">
                                        <p:cTn id="9" dur="1000"/>
                                        <p:tgtEl>
                                          <p:spTgt spid="1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42">
                                            <p:txEl>
                                              <p:pRg st="0" end="0"/>
                                            </p:txEl>
                                          </p:spTgt>
                                        </p:tgtEl>
                                        <p:attrNameLst>
                                          <p:attrName>style.visibility</p:attrName>
                                        </p:attrNameLst>
                                      </p:cBhvr>
                                      <p:to>
                                        <p:strVal val="visible"/>
                                      </p:to>
                                    </p:set>
                                    <p:anim calcmode="lin" valueType="num">
                                      <p:cBhvr additive="repl">
                                        <p:cTn id="14" dur="1000" fill="hold"/>
                                        <p:tgtEl>
                                          <p:spTgt spid="142">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42">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42">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repl">
                                        <p:cTn id="21" dur="1000" fill="hold"/>
                                        <p:tgtEl>
                                          <p:spTgt spid="142">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142">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42">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42">
                                            <p:txEl>
                                              <p:pRg st="2" end="2"/>
                                            </p:txEl>
                                          </p:spTgt>
                                        </p:tgtEl>
                                        <p:attrNameLst>
                                          <p:attrName>style.visibility</p:attrName>
                                        </p:attrNameLst>
                                      </p:cBhvr>
                                      <p:to>
                                        <p:strVal val="visible"/>
                                      </p:to>
                                    </p:set>
                                    <p:anim calcmode="lin" valueType="num">
                                      <p:cBhvr additive="repl">
                                        <p:cTn id="28" dur="1000" fill="hold"/>
                                        <p:tgtEl>
                                          <p:spTgt spid="142">
                                            <p:txEl>
                                              <p:pRg st="2" end="2"/>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142">
                                            <p:txEl>
                                              <p:pRg st="2" end="2"/>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even Steps</a:t>
            </a:r>
            <a:endParaRPr b="1" lang="en-US" sz="4400" spc="-1" strike="noStrike">
              <a:solidFill>
                <a:srgbClr val="bd9d69"/>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hen you have completed all seven steps you will have identified all the possible errors.</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ing your paper sentence by sentence ensures that you are focusing on what is actually on the page, not just what you think should be on the page!</a:t>
            </a:r>
            <a:endParaRPr b="0" lang="en-US" sz="3200" spc="-1" strike="noStrike">
              <a:solidFill>
                <a:srgbClr val="000000"/>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The Seven Steps</a:t>
            </a:r>
            <a:endParaRPr b="1" lang="en-US" sz="4400" spc="-1" strike="noStrike">
              <a:solidFill>
                <a:srgbClr val="bd9d69"/>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1. Check for complete sentenc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Check for words that are left out and check for words or ideas that are repeated</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Check all words for capitaliz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4. Check for all punctuation mistakes.</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5. Check for subject-verb agreement.</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6. Check for problems in usage.</a:t>
            </a:r>
            <a:endParaRPr b="0" lang="en-US" sz="3200" spc="-1" strike="noStrike">
              <a:solidFill>
                <a:srgbClr val="000000"/>
              </a:solidFill>
              <a:latin typeface="Garamond"/>
            </a:endParaRPr>
          </a:p>
          <a:p>
            <a:pPr marL="322200" indent="-32220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7. Check for misspelled words.</a:t>
            </a:r>
            <a:endParaRPr b="0" lang="en-US" sz="3200" spc="-1" strike="noStrike">
              <a:solidFill>
                <a:srgbClr val="000000"/>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1 – Complete Sentences</a:t>
            </a:r>
            <a:endParaRPr b="1" lang="en-US" sz="4400" spc="-1" strike="noStrike">
              <a:solidFill>
                <a:srgbClr val="bd9d69"/>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sentence is complete when it h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Subject – What or who is the sentence abou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erb – What is being said about the subject, or what did the subject do.</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Capital letter at the beginning.</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end mark at the end.</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makes complete sense.</a:t>
            </a:r>
            <a:endParaRPr b="0" lang="en-US" sz="2800" spc="-1" strike="noStrike">
              <a:solidFill>
                <a:srgbClr val="000000"/>
              </a:solidFill>
              <a:latin typeface="Garamon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endParaRPr b="0" lang="en-US" sz="2400" spc="-1" strike="noStrike">
              <a:solidFill>
                <a:srgbClr val="000000"/>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2 – Are Words left out or repeated?</a:t>
            </a:r>
            <a:endParaRPr b="1" lang="en-US" sz="4000" spc="-1" strike="noStrike">
              <a:solidFill>
                <a:srgbClr val="bd9d69"/>
              </a:solidFill>
              <a:latin typeface="Garamond"/>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start a sentence with an idea and then restate the idea at the end because we forgot what we sai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metimes we accidentally repeat or leave out words because we know what we meant to say, but forget to actually say it.</a:t>
            </a:r>
            <a:endParaRPr b="0" lang="en-US" sz="3200" spc="-1" strike="noStrike">
              <a:solidFill>
                <a:srgbClr val="000000"/>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3 – Check for Capitalization Mistakes</a:t>
            </a:r>
            <a:endParaRPr b="1" lang="en-US" sz="4000" spc="-1" strike="noStrike">
              <a:solidFill>
                <a:srgbClr val="bd9d69"/>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noun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ll proper adjectiv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mportant words in Titles should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ommon nouns should not be capitalized.</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4 – Check for Punctuation Mistakes</a:t>
            </a:r>
            <a:endParaRPr b="1" lang="en-US" sz="4000" spc="-1" strike="noStrike">
              <a:solidFill>
                <a:srgbClr val="bd9d69"/>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ve Punctuation mark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a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iod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postroph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uotation Mark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Underlining.</a:t>
            </a:r>
            <a:endParaRPr b="0" lang="en-US" sz="28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heck for each kind of mistake.</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aren’t sure LOOK IT UP!</a:t>
            </a:r>
            <a:endParaRPr b="0" lang="en-US" sz="32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d9d69"/>
                </a:solidFill>
                <a:latin typeface="Garamond"/>
              </a:rPr>
              <a:t>Step 5 – Subject-Verb Agreement</a:t>
            </a:r>
            <a:endParaRPr b="1" lang="en-US" sz="4400" spc="-1" strike="noStrike">
              <a:solidFill>
                <a:srgbClr val="bd9d69"/>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singular subject you should have a singular verb.</a:t>
            </a:r>
            <a:endParaRPr b="0" lang="en-US" sz="32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s with the yarn (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s plays with the yarn (incorrect)</a:t>
            </a:r>
            <a:endParaRPr b="0" lang="en-US" sz="2800" spc="-1" strike="noStrike">
              <a:solidFill>
                <a:srgbClr val="000000"/>
              </a:solidFill>
              <a:latin typeface="Garamond"/>
            </a:endParaRPr>
          </a:p>
          <a:p>
            <a:pPr lvl="1" marL="690840" indent="-2656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cat play with the yarn (incorrect)</a:t>
            </a:r>
            <a:endParaRPr b="0" lang="en-US" sz="28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f you have a plural subject you should have a plural verb.</a:t>
            </a:r>
            <a:endParaRPr b="0" lang="en-US" sz="3200" spc="-1" strike="noStrike">
              <a:solidFill>
                <a:srgbClr val="000000"/>
              </a:solidFill>
              <a:latin typeface="Garamond"/>
            </a:endParaRPr>
          </a:p>
          <a:p>
            <a:pPr marL="318960" indent="-318960">
              <a:lnSpc>
                <a:spcPct val="90000"/>
              </a:lnSpc>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e careful in identifying the correct subject so you know which type of verb to use.</a:t>
            </a:r>
            <a:endParaRPr b="0" lang="en-US" sz="3200" spc="-1" strike="noStrike">
              <a:solidFill>
                <a:srgbClr val="000000"/>
              </a:solidFill>
              <a:latin typeface="Garamond"/>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d9d69"/>
                </a:solidFill>
                <a:latin typeface="Garamond"/>
              </a:rPr>
              <a:t>Step 6 – Check for problems in usage.</a:t>
            </a:r>
            <a:endParaRPr b="1" lang="en-US" sz="4000" spc="-1" strike="noStrike">
              <a:solidFill>
                <a:srgbClr val="bd9d69"/>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Pronoun usage – does the pronoun refer to a specific, already identified noun within the paragraph.</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ouble negatives – two ‘not’s make a do.</a:t>
            </a:r>
            <a:endParaRPr b="0" lang="en-US" sz="3200" spc="-1" strike="noStrike">
              <a:solidFill>
                <a:srgbClr val="000000"/>
              </a:solidFill>
              <a:latin typeface="Garamond"/>
            </a:endParaRPr>
          </a:p>
          <a:p>
            <a:pPr marL="343080" indent="-343080">
              <a:spcBef>
                <a:spcPts val="799"/>
              </a:spcBef>
              <a:buClr>
                <a:srgbClr val="ff99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an choices – An comes before a …</a:t>
            </a: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13:15Z</dcterms:created>
  <dc:creator>Sean Rickert</dc:creator>
  <dc:description/>
  <dc:language>en-US</dc:language>
  <cp:lastModifiedBy>RomaK</cp:lastModifiedBy>
  <dcterms:modified xsi:type="dcterms:W3CDTF">2015-09-02T09:46:04Z</dcterms:modified>
  <cp:revision>7</cp:revision>
  <dc:subject/>
  <dc:title>Proofreading </dc:title>
</cp:coreProperties>
</file>